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824A6-6A3B-4A9C-98C8-95F156D45B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602EB-DB8B-4863-8DCD-9D9B021771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DFC1D-EDEE-41B6-A422-0DD2894EE8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36199-964D-47A3-A6FC-BCB7460543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3"/>
          <p:cNvSpPr/>
          <p:nvPr/>
        </p:nvSpPr>
        <p:spPr>
          <a:xfrm>
            <a:off x="3886200" y="6248520"/>
            <a:ext cx="1523880" cy="457200"/>
          </a:xfrm>
          <a:custGeom>
            <a:avLst/>
            <a:gdLst>
              <a:gd name="textAreaLeft" fmla="*/ 29520 w 1523880"/>
              <a:gd name="textAreaRight" fmla="*/ 1494360 w 15238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1955" h="21600">
                <a:moveTo>
                  <a:pt x="0" y="0"/>
                </a:moveTo>
                <a:lnTo>
                  <a:pt x="71955" y="0"/>
                </a:lnTo>
                <a:lnTo>
                  <a:pt x="71955" y="21600"/>
                </a:lnTo>
                <a:lnTo>
                  <a:pt x="0" y="21600"/>
                </a:lnTo>
                <a:close/>
              </a:path>
              <a:path fill="lightenLess" w="71955" h="21600">
                <a:moveTo>
                  <a:pt x="0" y="0"/>
                </a:moveTo>
                <a:lnTo>
                  <a:pt x="71955" y="0"/>
                </a:lnTo>
                <a:lnTo>
                  <a:pt x="70555" y="1400"/>
                </a:lnTo>
                <a:lnTo>
                  <a:pt x="1400" y="1400"/>
                </a:lnTo>
                <a:close/>
              </a:path>
              <a:path fill="darken" w="71955" h="21600">
                <a:moveTo>
                  <a:pt x="71955" y="0"/>
                </a:moveTo>
                <a:lnTo>
                  <a:pt x="71955" y="21600"/>
                </a:lnTo>
                <a:lnTo>
                  <a:pt x="70555" y="20200"/>
                </a:lnTo>
                <a:lnTo>
                  <a:pt x="70555" y="1400"/>
                </a:lnTo>
                <a:close/>
              </a:path>
              <a:path fill="darkenLess" w="71955" h="21600">
                <a:moveTo>
                  <a:pt x="71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55" y="20200"/>
                </a:lnTo>
                <a:close/>
              </a:path>
              <a:path fill="lighten" w="71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Text Box 24"/>
          <p:cNvSpPr/>
          <p:nvPr/>
        </p:nvSpPr>
        <p:spPr>
          <a:xfrm>
            <a:off x="3962520" y="6248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AutoShape 26"/>
          <p:cNvSpPr/>
          <p:nvPr/>
        </p:nvSpPr>
        <p:spPr>
          <a:xfrm>
            <a:off x="228600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25"/>
          <p:cNvSpPr/>
          <p:nvPr/>
        </p:nvSpPr>
        <p:spPr>
          <a:xfrm>
            <a:off x="2362320" y="586728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AutoShape 29">
            <a:hlinkClick r:id="" action="ppaction://hlinkshowjump?jump=firstslide"/>
          </p:cNvPr>
          <p:cNvSpPr/>
          <p:nvPr/>
        </p:nvSpPr>
        <p:spPr>
          <a:xfrm>
            <a:off x="5562720" y="6248520"/>
            <a:ext cx="1447560" cy="457200"/>
          </a:xfrm>
          <a:custGeom>
            <a:avLst/>
            <a:gdLst>
              <a:gd name="textAreaLeft" fmla="*/ 29520 w 1447560"/>
              <a:gd name="textAreaRight" fmla="*/ 1418040 w 14475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52" h="21600">
                <a:moveTo>
                  <a:pt x="0" y="0"/>
                </a:moveTo>
                <a:lnTo>
                  <a:pt x="68352" y="0"/>
                </a:lnTo>
                <a:lnTo>
                  <a:pt x="68352" y="21600"/>
                </a:lnTo>
                <a:lnTo>
                  <a:pt x="0" y="21600"/>
                </a:lnTo>
                <a:close/>
              </a:path>
              <a:path fill="lightenLess" w="68352" h="21600">
                <a:moveTo>
                  <a:pt x="0" y="0"/>
                </a:moveTo>
                <a:lnTo>
                  <a:pt x="68352" y="0"/>
                </a:lnTo>
                <a:lnTo>
                  <a:pt x="66952" y="1400"/>
                </a:lnTo>
                <a:lnTo>
                  <a:pt x="1400" y="1400"/>
                </a:lnTo>
                <a:close/>
              </a:path>
              <a:path fill="darken" w="68352" h="21600">
                <a:moveTo>
                  <a:pt x="68352" y="0"/>
                </a:moveTo>
                <a:lnTo>
                  <a:pt x="68352" y="21600"/>
                </a:lnTo>
                <a:lnTo>
                  <a:pt x="66952" y="20200"/>
                </a:lnTo>
                <a:lnTo>
                  <a:pt x="66952" y="1400"/>
                </a:lnTo>
                <a:close/>
              </a:path>
              <a:path fill="darkenLess" w="68352" h="21600">
                <a:moveTo>
                  <a:pt x="68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52" y="20200"/>
                </a:lnTo>
                <a:close/>
              </a:path>
              <a:path fill="lighten" w="68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8352" h="21600">
                <a:moveTo>
                  <a:pt x="34176" y="3837"/>
                </a:moveTo>
                <a:lnTo>
                  <a:pt x="36752" y="6448"/>
                </a:lnTo>
                <a:lnTo>
                  <a:pt x="36752" y="4707"/>
                </a:lnTo>
                <a:lnTo>
                  <a:pt x="38528" y="4707"/>
                </a:lnTo>
                <a:lnTo>
                  <a:pt x="38528" y="8224"/>
                </a:lnTo>
                <a:lnTo>
                  <a:pt x="41139" y="10800"/>
                </a:lnTo>
                <a:lnTo>
                  <a:pt x="39485" y="10800"/>
                </a:lnTo>
                <a:lnTo>
                  <a:pt x="39485" y="17989"/>
                </a:lnTo>
                <a:lnTo>
                  <a:pt x="28867" y="17989"/>
                </a:lnTo>
                <a:lnTo>
                  <a:pt x="28867" y="10800"/>
                </a:lnTo>
                <a:lnTo>
                  <a:pt x="27213" y="10800"/>
                </a:lnTo>
                <a:close/>
              </a:path>
              <a:path fill="darkenLess" w="68352" h="21600">
                <a:moveTo>
                  <a:pt x="36752" y="6448"/>
                </a:moveTo>
                <a:lnTo>
                  <a:pt x="36752" y="4707"/>
                </a:lnTo>
                <a:lnTo>
                  <a:pt x="38528" y="4707"/>
                </a:lnTo>
                <a:lnTo>
                  <a:pt x="38528" y="8224"/>
                </a:lnTo>
                <a:close/>
              </a:path>
              <a:path fill="darkenLess" w="68352" h="21600">
                <a:moveTo>
                  <a:pt x="33253" y="14299"/>
                </a:moveTo>
                <a:lnTo>
                  <a:pt x="35099" y="14299"/>
                </a:lnTo>
                <a:lnTo>
                  <a:pt x="35099" y="17989"/>
                </a:lnTo>
                <a:lnTo>
                  <a:pt x="39485" y="17989"/>
                </a:lnTo>
                <a:lnTo>
                  <a:pt x="39485" y="10800"/>
                </a:lnTo>
                <a:lnTo>
                  <a:pt x="28867" y="10800"/>
                </a:lnTo>
                <a:lnTo>
                  <a:pt x="28867" y="17989"/>
                </a:lnTo>
                <a:lnTo>
                  <a:pt x="33253" y="17989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slide" Target="slide12.xml"/><Relationship Id="rId12" Type="http://schemas.openxmlformats.org/officeDocument/2006/relationships/slide" Target="slide13.xml"/><Relationship Id="rId13" Type="http://schemas.openxmlformats.org/officeDocument/2006/relationships/slide" Target="slide14.xml"/><Relationship Id="rId14" Type="http://schemas.openxmlformats.org/officeDocument/2006/relationships/slide" Target="slide15.xml"/><Relationship Id="rId15" Type="http://schemas.openxmlformats.org/officeDocument/2006/relationships/slide" Target="slide16.xml"/><Relationship Id="rId16" Type="http://schemas.openxmlformats.org/officeDocument/2006/relationships/slide" Target="slide17.xml"/><Relationship Id="rId17" Type="http://schemas.openxmlformats.org/officeDocument/2006/relationships/slide" Target="slide18.xml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7"/>
          <p:cNvSpPr/>
          <p:nvPr/>
        </p:nvSpPr>
        <p:spPr>
          <a:xfrm>
            <a:off x="3581280" y="6095880"/>
            <a:ext cx="2133720" cy="609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-76320"/>
            <a:ext cx="77724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cience Jeopar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304920" y="1650960"/>
            <a:ext cx="1600200" cy="70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304920" y="2463840"/>
            <a:ext cx="1600200" cy="70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3" action="ppaction://hlinksldjump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304920" y="3327480"/>
            <a:ext cx="1600200" cy="70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4" action="ppaction://hlinksldjump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304920" y="4165560"/>
            <a:ext cx="1600200" cy="70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5" action="ppaction://hlinksldjump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304920" y="5003640"/>
            <a:ext cx="1600200" cy="70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6" action="ppaction://hlinksldjump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2057400" y="1650960"/>
            <a:ext cx="1600200" cy="7034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7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2057400" y="2463840"/>
            <a:ext cx="1600200" cy="7034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8" action="ppaction://hlinksldjump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2057400" y="3327480"/>
            <a:ext cx="1600200" cy="7034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9" action="ppaction://hlinksldjump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3"/>
          <p:cNvSpPr/>
          <p:nvPr/>
        </p:nvSpPr>
        <p:spPr>
          <a:xfrm>
            <a:off x="2057400" y="4165560"/>
            <a:ext cx="1600200" cy="7034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10" action="ppaction://hlinksldjump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4"/>
          <p:cNvSpPr/>
          <p:nvPr/>
        </p:nvSpPr>
        <p:spPr>
          <a:xfrm>
            <a:off x="2057400" y="5003640"/>
            <a:ext cx="1600200" cy="7034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11" action="ppaction://hlinksldjump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5"/>
          <p:cNvSpPr/>
          <p:nvPr/>
        </p:nvSpPr>
        <p:spPr>
          <a:xfrm>
            <a:off x="3809880" y="1650960"/>
            <a:ext cx="1600200" cy="703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12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6"/>
          <p:cNvSpPr/>
          <p:nvPr/>
        </p:nvSpPr>
        <p:spPr>
          <a:xfrm>
            <a:off x="3809880" y="2463840"/>
            <a:ext cx="1600200" cy="703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13" action="ppaction://hlinksldjump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7"/>
          <p:cNvSpPr/>
          <p:nvPr/>
        </p:nvSpPr>
        <p:spPr>
          <a:xfrm>
            <a:off x="3809880" y="3327480"/>
            <a:ext cx="1600200" cy="703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14" action="ppaction://hlinksldjump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8"/>
          <p:cNvSpPr/>
          <p:nvPr/>
        </p:nvSpPr>
        <p:spPr>
          <a:xfrm>
            <a:off x="3809880" y="4165560"/>
            <a:ext cx="1600200" cy="703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15" action="ppaction://hlinksldjump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9"/>
          <p:cNvSpPr/>
          <p:nvPr/>
        </p:nvSpPr>
        <p:spPr>
          <a:xfrm>
            <a:off x="3809880" y="5003640"/>
            <a:ext cx="1600200" cy="703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16" action="ppaction://hlinksldjump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0"/>
          <p:cNvSpPr/>
          <p:nvPr/>
        </p:nvSpPr>
        <p:spPr>
          <a:xfrm>
            <a:off x="5562720" y="1650960"/>
            <a:ext cx="1600200" cy="703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17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21"/>
          <p:cNvSpPr/>
          <p:nvPr/>
        </p:nvSpPr>
        <p:spPr>
          <a:xfrm>
            <a:off x="5562720" y="2463840"/>
            <a:ext cx="1600200" cy="703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2"/>
          <p:cNvSpPr/>
          <p:nvPr/>
        </p:nvSpPr>
        <p:spPr>
          <a:xfrm>
            <a:off x="5562720" y="3327480"/>
            <a:ext cx="1600200" cy="703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23"/>
          <p:cNvSpPr/>
          <p:nvPr/>
        </p:nvSpPr>
        <p:spPr>
          <a:xfrm>
            <a:off x="5562720" y="4165560"/>
            <a:ext cx="1600200" cy="703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24"/>
          <p:cNvSpPr/>
          <p:nvPr/>
        </p:nvSpPr>
        <p:spPr>
          <a:xfrm>
            <a:off x="5562720" y="5003640"/>
            <a:ext cx="1600200" cy="703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5"/>
          <p:cNvSpPr/>
          <p:nvPr/>
        </p:nvSpPr>
        <p:spPr>
          <a:xfrm>
            <a:off x="7315200" y="1650960"/>
            <a:ext cx="1600200" cy="70344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6"/>
          <p:cNvSpPr/>
          <p:nvPr/>
        </p:nvSpPr>
        <p:spPr>
          <a:xfrm>
            <a:off x="7315200" y="2463840"/>
            <a:ext cx="1600200" cy="70344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27"/>
          <p:cNvSpPr/>
          <p:nvPr/>
        </p:nvSpPr>
        <p:spPr>
          <a:xfrm>
            <a:off x="7315200" y="3327480"/>
            <a:ext cx="1600200" cy="70344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28"/>
          <p:cNvSpPr/>
          <p:nvPr/>
        </p:nvSpPr>
        <p:spPr>
          <a:xfrm>
            <a:off x="7315200" y="4165560"/>
            <a:ext cx="1600200" cy="70344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29"/>
          <p:cNvSpPr/>
          <p:nvPr/>
        </p:nvSpPr>
        <p:spPr>
          <a:xfrm>
            <a:off x="7315200" y="5003640"/>
            <a:ext cx="1600200" cy="70344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9"/>
          <p:cNvSpPr/>
          <p:nvPr/>
        </p:nvSpPr>
        <p:spPr>
          <a:xfrm>
            <a:off x="304920" y="838080"/>
            <a:ext cx="1600200" cy="337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i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40"/>
          <p:cNvSpPr/>
          <p:nvPr/>
        </p:nvSpPr>
        <p:spPr>
          <a:xfrm>
            <a:off x="2057400" y="838080"/>
            <a:ext cx="1600200" cy="3373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emis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1"/>
          <p:cNvSpPr/>
          <p:nvPr/>
        </p:nvSpPr>
        <p:spPr>
          <a:xfrm>
            <a:off x="3809880" y="838080"/>
            <a:ext cx="1600200" cy="3373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hys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2"/>
          <p:cNvSpPr/>
          <p:nvPr/>
        </p:nvSpPr>
        <p:spPr>
          <a:xfrm>
            <a:off x="5562720" y="838080"/>
            <a:ext cx="160020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rth/Space Sc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3"/>
          <p:cNvSpPr/>
          <p:nvPr/>
        </p:nvSpPr>
        <p:spPr>
          <a:xfrm>
            <a:off x="7315200" y="838080"/>
            <a:ext cx="1600200" cy="3373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al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45"/>
          <p:cNvSpPr/>
          <p:nvPr/>
        </p:nvSpPr>
        <p:spPr>
          <a:xfrm>
            <a:off x="7924680" y="763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e8e8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6"/>
          <p:cNvSpPr/>
          <p:nvPr/>
        </p:nvSpPr>
        <p:spPr>
          <a:xfrm>
            <a:off x="3581280" y="61722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inal Jeopar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-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alpha parti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-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1s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s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p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-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Van der Walls fo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-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E=h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-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capaci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-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inverse square la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-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kg 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-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accelerating an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-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light-y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-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Alpha Centua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l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838080" y="1752480"/>
            <a:ext cx="754380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) Save a duplicate of this templ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2) Enter all answers and questions in the normal view. (view/norm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3) Change the category headings in the normal view (view/norm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4) View as a slidesho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5) Use the home red button after each ques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5">
            <a:hlinkClick r:id="" action="ppaction://hlinkshowjump?jump=firstslide"/>
          </p:cNvPr>
          <p:cNvSpPr/>
          <p:nvPr/>
        </p:nvSpPr>
        <p:spPr>
          <a:xfrm>
            <a:off x="1066680" y="4343400"/>
            <a:ext cx="1067040" cy="457200"/>
          </a:xfrm>
          <a:custGeom>
            <a:avLst/>
            <a:gdLst>
              <a:gd name="textAreaLeft" fmla="*/ 29520 w 1067040"/>
              <a:gd name="textAreaRight" fmla="*/ 1037520 w 10670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0389" h="21600">
                <a:moveTo>
                  <a:pt x="0" y="0"/>
                </a:moveTo>
                <a:lnTo>
                  <a:pt x="50389" y="0"/>
                </a:lnTo>
                <a:lnTo>
                  <a:pt x="50389" y="21600"/>
                </a:lnTo>
                <a:lnTo>
                  <a:pt x="0" y="21600"/>
                </a:lnTo>
                <a:close/>
              </a:path>
              <a:path fill="lightenLess" w="50389" h="21600">
                <a:moveTo>
                  <a:pt x="0" y="0"/>
                </a:moveTo>
                <a:lnTo>
                  <a:pt x="50389" y="0"/>
                </a:lnTo>
                <a:lnTo>
                  <a:pt x="48989" y="1400"/>
                </a:lnTo>
                <a:lnTo>
                  <a:pt x="1400" y="1400"/>
                </a:lnTo>
                <a:close/>
              </a:path>
              <a:path fill="darken" w="50389" h="21600">
                <a:moveTo>
                  <a:pt x="50389" y="0"/>
                </a:moveTo>
                <a:lnTo>
                  <a:pt x="50389" y="21600"/>
                </a:lnTo>
                <a:lnTo>
                  <a:pt x="48989" y="20200"/>
                </a:lnTo>
                <a:lnTo>
                  <a:pt x="48989" y="1400"/>
                </a:lnTo>
                <a:close/>
              </a:path>
              <a:path fill="darkenLess" w="50389" h="21600">
                <a:moveTo>
                  <a:pt x="503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89" y="20200"/>
                </a:lnTo>
                <a:close/>
              </a:path>
              <a:path fill="lighten" w="503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89" h="21600">
                <a:moveTo>
                  <a:pt x="25194" y="3837"/>
                </a:moveTo>
                <a:lnTo>
                  <a:pt x="27771" y="6448"/>
                </a:lnTo>
                <a:lnTo>
                  <a:pt x="27771" y="4707"/>
                </a:lnTo>
                <a:lnTo>
                  <a:pt x="29546" y="4707"/>
                </a:lnTo>
                <a:lnTo>
                  <a:pt x="29546" y="8224"/>
                </a:lnTo>
                <a:lnTo>
                  <a:pt x="32157" y="10800"/>
                </a:lnTo>
                <a:lnTo>
                  <a:pt x="30504" y="10800"/>
                </a:lnTo>
                <a:lnTo>
                  <a:pt x="30504" y="17989"/>
                </a:lnTo>
                <a:lnTo>
                  <a:pt x="19885" y="17989"/>
                </a:lnTo>
                <a:lnTo>
                  <a:pt x="19885" y="10800"/>
                </a:lnTo>
                <a:lnTo>
                  <a:pt x="18231" y="10800"/>
                </a:lnTo>
                <a:close/>
              </a:path>
              <a:path fill="darkenLess" w="50389" h="21600">
                <a:moveTo>
                  <a:pt x="27771" y="6448"/>
                </a:moveTo>
                <a:lnTo>
                  <a:pt x="27771" y="4707"/>
                </a:lnTo>
                <a:lnTo>
                  <a:pt x="29546" y="4707"/>
                </a:lnTo>
                <a:lnTo>
                  <a:pt x="29546" y="8224"/>
                </a:lnTo>
                <a:close/>
              </a:path>
              <a:path fill="darkenLess" w="50389" h="21600">
                <a:moveTo>
                  <a:pt x="24272" y="14299"/>
                </a:moveTo>
                <a:lnTo>
                  <a:pt x="26117" y="14299"/>
                </a:lnTo>
                <a:lnTo>
                  <a:pt x="26117" y="17989"/>
                </a:lnTo>
                <a:lnTo>
                  <a:pt x="30504" y="17989"/>
                </a:lnTo>
                <a:lnTo>
                  <a:pt x="30504" y="10800"/>
                </a:lnTo>
                <a:lnTo>
                  <a:pt x="19885" y="10800"/>
                </a:lnTo>
                <a:lnTo>
                  <a:pt x="19885" y="17989"/>
                </a:lnTo>
                <a:lnTo>
                  <a:pt x="24272" y="17989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1295280" y="6400800"/>
            <a:ext cx="563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Norman Herr,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-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umb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-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lateritic so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-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puls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-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DU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-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nicot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-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trans-fatty ac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-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Herpes Zo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-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LD-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NAL JEOPAR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Pauli Exclusion Princi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-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01800" y="2333520"/>
            <a:ext cx="7340400" cy="8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-205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prokary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-205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: What is an organism who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 DNA is not contained in its nucleu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-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mutual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-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NAD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-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gibberellic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-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odixative phsophory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calor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-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-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double replac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3T18:19:09Z</dcterms:created>
  <dc:creator>Norman Herr</dc:creator>
  <dc:description/>
  <dc:language>en-US</dc:language>
  <cp:lastModifiedBy>Norman Herr</cp:lastModifiedBy>
  <dcterms:modified xsi:type="dcterms:W3CDTF">2011-10-19T20:53:52Z</dcterms:modified>
  <cp:revision>20</cp:revision>
  <dc:subject/>
  <dc:title>Science Jeopardy</dc:title>
</cp:coreProperties>
</file>